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ng" ContentType="image/png"/>
  <Override PartName="/ppt/media/image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E34A-27AD-46B6-80E3-91E867FEE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hexagonal snow flake.it looks very cool,but it looks like st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E26-AE43-428F-B150-6A77DB2E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87C-34CA-44A7-8173-FB0AD4C0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EF4-E531-47FD-AC2C-D457BBB9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1B5-9387-462F-B66A-93897760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D87-5885-43CE-84CE-ECC80146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A7D-6443-4B58-88B7-970B3B0F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E49-BE04-467A-973C-5DD223FB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75B-DF6E-4CE0-99A1-233E423D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8F9-8CCF-4BD8-BB93-CE35E27A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F9D-131D-4EFA-98B5-2F36A5D8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961-6551-42B4-8EBA-20ED5775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626A-D6E5-4E72-8419-00714C61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9672-ACE0-49CB-9C9B-1F0F21A4E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mu.arsusda.gov/snowsite/default.html" TargetMode="Externa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5715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nowflake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on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USDA’s snowflake web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 half way down the page and look for images to drag onto your PowerPoint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in the information about each snowfl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the “Insert” menu put in new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ew Show” from the Slide Show m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001000" y="380880"/>
            <a:ext cx="114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Stel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rys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ctorli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gonal snow  fl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49908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Ordinal hexagonal snow fl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702000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990720"/>
            <a:ext cx="6172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is Powerpoint was created by Zobeida from Class 4-401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ed by Zobe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18:05:03Z</dcterms:created>
  <dc:creator>NYCD DOE</dc:creator>
  <dc:description/>
  <dc:language>en-US</dc:language>
  <cp:lastModifiedBy>NYCD DOE</cp:lastModifiedBy>
  <dcterms:modified xsi:type="dcterms:W3CDTF">2007-03-19T10:19:47Z</dcterms:modified>
  <cp:revision>6</cp:revision>
  <dc:subject/>
  <dc:title>Hexagonal snow  flake</dc:title>
</cp:coreProperties>
</file>